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5D0B-ADBB-47DE-B121-89EAA7EE9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BC76-D60A-49D5-A46D-E1CA3292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4BD0AB-8351-404D-86AC-99885E29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4BB745-CC4D-46CD-8BB9-A83B3B07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A4B4B1-CE4F-4938-8967-830E2B52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996E5C-66EC-47FE-AA8B-042ADA11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31BBF6-9DEE-42EC-82D7-A7572E00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8B1121-A8F0-4EAD-AA4A-81C988F7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593170-9D9E-44C1-842C-B3A9DA40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F83E42-A4DF-4A46-8C25-98BB6EB8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E98860-AE53-4266-A631-98201289DF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DAA5E-FCD9-46AC-A1DA-7A6D8F8063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4E71-B7B9-4E6B-8B20-9BD633EA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B78DD-135D-43D4-A3B3-239E8699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57F6F-4F77-4654-9798-DBA38179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49F19-31A0-4AB5-8480-81F71B46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6F702-950A-4573-970F-D77AEED2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8EF53-D04C-490D-87E7-19845A3D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03222-B272-4EF6-8EBD-9BBF4679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68053-408E-48AA-BAFA-C65D32CE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209C8-F3A0-48AE-BD27-2B046756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D5C12-149C-4048-950B-CE803E22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C9C0F-A89E-41AB-B69E-0172AFCB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21BE-FB40-4164-BB6B-080B7927B4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96FE7-E8D4-41B0-817E-D9BDFA3270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9D3B7E-C373-46B3-B11F-27CF7C8AFB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656C25-379F-4CAB-9550-F5AF7E59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9D7C9D-6C51-4106-A4D2-A91C6B02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8730FF-241C-4B95-8DAB-2A5BD4C8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B07CF5-6E99-4506-BD4B-7FBBBD0C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B58170-03D9-422C-B7A9-59EF060F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1BC6BB-19A8-4CFC-B973-E80365ED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DEA360-B5FF-4100-83EF-76865C79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890C94-DC92-47BE-8582-1EB39AC5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C4BAC-D7EA-4742-A514-D1036D76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86B942-EB6B-4399-935D-B048DDC8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71C446-2827-498B-A62D-02F00124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244F65-56E8-4B6D-BCBC-F0332BCC5E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07088-DF87-40B5-9CFD-0DBEC829DA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F1DB5-C060-4F59-9311-8588EED0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8B8AA-1B08-4A1B-A86F-068DFCD9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E7408-AF21-44BF-8B83-DBD23597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F8849-3984-4E6C-9674-D98606E6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2D249-62E7-4989-9179-2EAA44D4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F4AB2-D87F-4E01-9171-8A012C46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61357-3727-4DAC-8714-203AB9B6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F1ED7-8860-446E-88E2-0D3D9A18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0E396-996D-47E2-9506-6627B2D7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C4ABA-6DEC-45D6-B7CC-50EE0FA5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80AEE-F175-4A75-99FE-0FA86463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E7B9D-0E46-42C9-8F4D-7840033BAE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E9587-F153-4140-9F5D-D2122F477D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21766-E40C-41A8-AA68-362F414D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AAACB-225A-45D2-BBA2-4C6D26EE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19F9D-75AF-491E-B0A7-B043A5C9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1D245-49F5-42F0-BAE5-03AA4C30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F2E28-27D5-4862-A2CE-C39E7DCC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C3484-7A67-4C2F-8CA0-732C2426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501D3-97E8-4C55-91BD-B711FB56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4BF16-C581-4CE4-B07E-0F4DE630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314C2-0B79-4349-B2A1-9A43F35A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D50C3-4F36-45BC-90FB-58972C5C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28900-51CF-42FA-A6CB-74AFFEF3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8FFAF-DE63-4147-968A-151EDC30D9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4BF39-AFB0-4C3C-9ECB-B0551A54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FA4DB-5C1E-4BA0-9B04-BF70BED2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1F6B7-24C8-4295-BDF8-EDE8C83C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7C919-D8CE-4884-BD5A-2F444B1D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0F421-CC8C-4262-8F8B-256EA46D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00A21-1572-43D3-B383-21A4BF28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468BD-3E25-42F8-98E7-BC98D576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DC943-1B18-4215-BBF6-E255252A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18056-0A1F-4AD9-B249-9518E2DB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C705C-95D3-442A-AAE9-737A3F2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00193-2996-4F51-B0C3-4CCE26D5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A4BE6-E6B9-4E0C-BD07-D062B078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9B049-D511-4AA6-A7FE-23877414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99E3E-18CD-4F6B-985D-A30009A4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2A0F4-CAE6-4B4F-8099-DE712C61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C7E72-259D-40AE-A5C4-452BF6C5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7FA6D-3B77-4274-802D-3275566A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F8ACB-6C0C-4AC1-87DB-0EBDB980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57285-ED15-4649-8034-1F0D8A28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3F757-4CF3-477C-8D8B-5D97EE1E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5FE39-0AA0-4410-BA78-423E9C12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95298-7504-48EF-8A2C-A0B9771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5CEED-B70E-4BE0-86DC-0DB76874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C8057-7E9F-475A-8688-922C0328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C50B7-A5A8-4C79-8969-38A1F4C0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7984D-2DD5-4578-BB55-CABC6981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9A5CD-42B6-47E3-B6F5-3B156672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C1606-FE50-4978-885B-C3170FAA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6A9E2-A119-408B-8BC1-CE9E19DB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46561-C921-44F7-9ACB-C7F17C17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2DC1A-C8DB-479B-9DA7-781AF745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B1071-F08D-4F70-999C-231BBE26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800BC-885B-4DA9-8E82-8FE6B324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80E2A-B7CC-42B7-8C6E-9EAD245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47D4A-7D86-4F37-BE41-BD19C543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2989A-EA7D-46F6-89EC-63E20DC9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B4169-A07E-496F-B301-2A9A6A2F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7F6A1-AE60-45F4-AC84-46FCEFF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EE24E-AB1C-469F-B147-02059CD7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02A14-00AC-48E6-ABDB-622A89C1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6EA68-B149-48C3-A6C3-BC6322A1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2CC57-7851-4899-9C18-9326858D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5710D-443B-4ED0-8BFC-58A6817F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B6F7A-0BA1-4339-9988-FC67821B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A0B2A-6404-4E4A-9DDC-71478C34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B1DAC-2238-4530-8E36-A4D73569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0A7FD-5977-42C9-BAC5-1673D845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0D54A-61BC-4FA0-8640-1451DB9C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BB09C-F8E7-4A04-A38E-5576AA4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518F6-0E2F-4E4C-901D-102AE036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55186-4A14-4F5E-AF47-28C98860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52250-E9BE-4748-B472-7D2074C9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F7330-D090-4EF2-894C-BA92C685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A7F2D-F3F0-4E88-849D-3D3E3FDF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10A29-D2E3-4173-8213-B0EDDD02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A989F-3AA4-4F4A-875B-014F00E8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5DF45-6CEA-488F-A65C-380F3066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75042-0BB2-42B3-B7A8-6F6B7FFE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77552-C5D8-4FE1-B384-AC74F2B7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55588-3963-4F92-AEFD-A41A0F8B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A5FCD-3A17-4BFC-BAB2-95F09033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F666E-75C3-4F2F-BB40-0DA9CCE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D17C6-57A1-4E7F-90C5-CA706C4F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38902-2B81-482F-8EC8-52CF019F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6BAC9-EB66-43C8-AAC3-AACACE80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491CEC-1B8C-4081-B379-8315D378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5CD49-BE5F-4193-8757-C39FCD0B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FA718-37C3-4A45-9C31-DD71E661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74847-860D-44F6-A78E-69E152A9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89F515-B81D-4478-AA46-5D91FAF8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9E5EF-B27F-41C5-8024-0D574A48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79B97-60D3-4DC1-9B12-728124BB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47839-984D-4511-BD28-26E48207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38EE1-A589-4A43-A457-FEED4199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4C9DE-E8DF-4B14-AF38-C5C00367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4AF49-88A1-4891-A9C4-07C08F02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92F723-7078-4033-A660-C6C20BBC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D85D7-8136-4D46-BFAB-8E9712DE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55C6A-E546-4999-B1EA-B48D5CE8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49913-1C54-4380-8EF6-CAD3663B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765E9-7A74-4959-B09E-C02BE48E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58C12-6159-4256-958B-FE25F383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57451-8B93-4CD5-83A7-BD76D591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8C9B1-9B4E-402B-A951-DC6CE9C8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4D42C-E540-4B0C-B9CF-C7A9CF13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EEDB1C-2C3D-4A5F-823C-40FD93A0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405D0-3EB6-4CE9-B8DE-6A279475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AC7B6-7AB7-4550-8F1F-76B4D415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A6210-415E-4717-9DE3-1A50B1F5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F50DBC-F755-451E-BDB3-1572F051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A2AEC9-7C5C-48B5-8FC2-03399051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187D3-804C-452D-9B14-E4CABBD1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C11FC-664F-4CEE-B5F8-45362233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8A59F-3B1F-4016-B7F8-B57A27DD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C59F0-6FE5-4A4F-AEE3-AC2F4B9B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49CC5-13EC-4515-BBA0-FB3D9690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571B3D-A516-4A37-A95C-12FFBE7D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4C46D-C520-4827-B917-7B56D97E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9B758-4F5F-4BB6-9085-6AAA585E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CFA86-0E08-4284-9149-252F935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1BECBB-C3B9-4ED7-B911-6C1EFBDA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217AAE-E51C-4100-A426-A4683D34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23DFF-5BD2-499A-BD13-052D5287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38E836-EAD9-47B8-B4E3-7D589D0C1C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5D0F4-4400-46FD-99DD-802DD4FD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08F27-2791-43FD-9738-DF9B5507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466CB-5BFA-49B7-BC0F-78ED3A11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ADC50-97A1-48D5-9F12-F7BF76CE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4D6BA-D1EB-4D4E-B714-1DEB5EA9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EF78FF-B085-4F0F-8B41-1057A8DF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486F0-3FF4-44C3-BC55-D6B11055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F3123A-A923-4ABE-84E9-105A6443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F98FE-1DF2-4D30-A896-4FD9860D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DA9D1-55AF-4A9D-B49A-65405761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B28B8F-2A08-42F9-B9E1-87312209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A9AE4-6DBF-4E6A-BA9E-6D02FB46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1B8BD1-88A5-4CDF-8997-04393378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EDC08-EEA7-4FF8-9A5A-955D7A6E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A613B-9B7F-43BE-98FB-A6655554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848D0E-1960-4FAB-ABDE-64B3B109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9AD93B-8611-4129-B48B-20F34B9D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F60101-85EB-417C-9DA5-97BD29B6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A01559-4B96-45B9-AB8F-EDC9CE2E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9B5F0-3D23-4390-B254-6F18F39A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CE31E-29DE-4888-9A53-66FBCA04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F9B97-F7D8-4413-A3EB-E5A18415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5BFABC-0E04-4CD5-91C4-2931205A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E821F-F17A-4A79-AD68-E4750720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F7AF50-9EDD-45C5-9C47-09E70F93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3A99B-F173-458F-AFE1-DCFA1A6D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AEEBAB-062A-4A4F-8171-6859C7B0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13C3D-FF4C-442F-80A2-53B9C868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AF6FD5-4BC7-4919-A95A-9F7A56EB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7E8D67-34BA-4873-AD26-7DFEE879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2B1540-13D5-4CFB-927A-BF54CB25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F1FF8-6E9E-4484-A7A9-1DE2A1A1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91E899-26B4-44AA-8FD3-E92171FE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C7D703-740B-44DB-83F8-1397EDD3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DA5B33-F991-4746-9AEA-2C5E124B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EA1ABA-DB6B-4E30-8F5F-D4643CCA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F18C1E-23C4-45FC-AEE5-26B203C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FE3A68-C865-4AD2-9124-1979D442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A2F83A-4345-4BBD-B087-5FC90105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14404B-68E6-467F-8421-50C63F0B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FA279D-7096-4C29-8DCF-BDCED329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ABA17-40B1-4512-915A-A731319B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65572-1E60-47EB-8071-78CD2EB7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8F9A-25E3-46F3-8AD8-F4A5FE36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488A2B-23E6-41B2-858C-D56EEA86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E4D01E-25D1-4D45-A8BF-2255BA7E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F0498A-8977-4DF7-96CF-EFE63E79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5BFE85-22C6-42AB-9844-7B68B920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692D40-AB61-4B85-8222-AEB09450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182037-3A0E-4251-9557-1EA8A564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15271-34F9-490E-A68C-5D6D373618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CA18-0C9B-426B-9F8E-06F74889E4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F81E-51AA-415B-89D7-0A9038EB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4068-C1B5-4EB1-AE04-5F39D7A1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1A16-7E9F-4D0A-BC71-B83BA448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5F1D-359E-41E4-8921-38B7D14D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1A188-D5CE-480E-AF79-88CD430E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C675-111B-4680-8DDE-414A4FDC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7956-8ADD-4C58-8D49-7A5BD3EC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4D2F1-7819-462A-8C57-37B37204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80BD-7E57-4FE5-A892-97322285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A809-2796-413A-8A2A-051E3C4A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CDB1-AF50-4901-9276-1AC999E0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447B-6EB4-46B4-9D9F-D68583BEED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9F1C4-FDA9-46F3-BAC9-5D7D33F5C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0FB0-543E-4FBC-9325-0B15677D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62828-D01C-4766-9211-ECE43A69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2EE6D-35C8-4A7D-91EC-60FA5C1F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DB957-BCEC-4789-9810-5E3BEC48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01EB8-18CD-496C-91A0-6DD88E17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34E9F-F32E-4279-B2A5-AA5A9B4A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867CCA-633C-496F-A760-306E65ED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AB1AF-1B84-4EF9-B6FD-251E77FC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66EDDB-1912-4DF8-9E09-24C8BFF9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B3495-3F7F-4879-B463-7132C522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2242F-6F33-473B-A1A5-B8E41447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1A16-8598-46F5-AC60-2191CD33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2F43D-2A79-4CD6-83FB-CC0B1CFE41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A4132B-BF5E-4341-8A92-921FC63000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1385A2-98CB-4B73-AB6B-AFE6C61E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12BB6A-6492-453A-969F-A936B80A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1DD9F2-58F2-4E22-9560-B466BDC9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EF0896-F7EA-4DB7-9F80-57C331B5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4B906A-809B-4FB2-A5FB-32B0350E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3A8310-B404-4110-8D2D-5A258DD8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2DC01A-AB8B-441F-B2CF-5EC6B98F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252EC0-F55A-4E2A-A833-4E1FA85B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92E1-6D4A-4F37-9ACB-D62582C8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A2E967-8046-4A47-A141-C31C3959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E56390-3D0E-4DC7-88E3-3CACAD50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DFCA7E-51AB-4DD6-A1C0-D8D8AA2DC7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253E6-9A2A-42EC-A318-6B9ABCE636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76996-E39B-40E7-BA24-47F67DA6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06CE9-45DE-456C-9DB9-D0D951E7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D7F0-5FB6-4725-816E-E2E2D51E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7F03C-1701-4C4C-87C8-DFC6C5B6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61113-90EE-4D64-B0DC-9F4EA7E8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93E6B-6488-46E9-BFA2-88F8AA48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470E-5268-483C-BED0-643841FA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F8ABD-844E-4935-9DAC-9198A1A5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EEA59-A2E5-4304-858E-601667D1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E1140-A93D-4A80-940E-1823380D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CAA92-2AE8-495F-83F5-92542520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DAE4-5869-4C0C-8D42-B8262056B8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4E136-3236-4AB2-A716-5A8B3BC582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2A839-CCD7-4C9D-8FC5-3D290F20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A8BCC-9245-47FC-8106-ED2C602D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C0FE0-E701-4700-B4A9-AE727F62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266416-4984-48FD-B704-266F250E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AEFF-FDD4-44D2-8901-FA702C1F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9E215-0D3E-4BE5-90E1-C02E2B5E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C2539-A387-42F0-A1FC-0B28FFE0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B11F3-886A-44C3-95B7-CC9101AE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AE656-26DE-4D54-BC22-37A29E79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1EB59-FF94-4759-8CD9-5E864BF1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06AEC-BF32-4CA0-A149-F03E8312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9E3E5-B61C-47B1-A602-7530015296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8F6217-E75B-4438-9D85-DF5C756B31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599226-5601-4E63-AA0E-9D5DBD7E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C5CC9D-00CA-4F72-AB94-C21A84D9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6CA5-7ABF-4D3B-B41A-A755EA6DB9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B601-66EF-4360-94AC-1F9996464D2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2EDD-D5A9-4BA8-ABBB-1F5446814A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4D31-2EEB-43ED-91D5-ED9ACA662DD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8080-6CA4-4B52-875D-830155F20D6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1186-C82C-46C5-9C8D-CECCE3BE05F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FDE0-000B-4696-82DA-F4F39FB70E5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2E07-0236-40BE-834A-AE3FA18988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9A72-4959-4AF1-A2A5-399EFA98CE2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F02C-E0FE-47B5-A779-DF6AEAFDCA0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8F45-9E79-4880-AA2E-D3322727F69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59DB-608F-450A-B0F2-B95AF4E816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42CF-FFC6-44A4-A39C-043734B135B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AE60-0B54-4291-8034-7E7D51EFC51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78AC-79DF-4F98-AAA1-4C9F5EB81D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48E5-8B92-4685-AFC8-286608D45A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F0E7-C914-4243-9BE6-8820131AD9A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A56F-7AA5-4EE5-A2ED-8A100D7765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8C35-FADE-4748-9ACB-3E4D49EEC22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3EA6-E2A1-4C77-ADEB-D372528B10B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08B0-57A1-44CD-B317-D222576E9E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D38E-78A6-477E-B6EA-1C4FDB253D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8668-3613-4708-96BF-AF8A0A939A1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75AD-E9EB-4910-8F95-A77FD448FF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5167080" cy="360"/>
            <a:chOff x="2284560" y="2448000"/>
            <a:chExt cx="51670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5167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516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2516040" y="2716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998720" y="266688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乘法   倍的认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2080" y="1744560"/>
            <a:ext cx="69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Box 3"/>
          <p:cNvSpPr/>
          <p:nvPr/>
        </p:nvSpPr>
        <p:spPr>
          <a:xfrm>
            <a:off x="71280" y="500040"/>
            <a:ext cx="8929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回来还乘同样票价的火车，这次旅游买火车票一共花了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少钱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4"/>
          <p:cNvSpPr/>
          <p:nvPr/>
        </p:nvSpPr>
        <p:spPr>
          <a:xfrm>
            <a:off x="1785960" y="478152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15×3×2=129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这次旅游买火车票一共花了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29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2" descr="D:\我的文档-桌面-收藏夹\桌面\b587c960c54a.jpg"/>
          <p:cNvPicPr/>
          <p:nvPr/>
        </p:nvPicPr>
        <p:blipFill>
          <a:blip r:embed="rId1"/>
          <a:srcRect l="0" t="0" r="0" b="3734"/>
          <a:stretch/>
        </p:blipFill>
        <p:spPr>
          <a:xfrm>
            <a:off x="3000240" y="519120"/>
            <a:ext cx="3571920" cy="3214800"/>
          </a:xfrm>
          <a:prstGeom prst="rect">
            <a:avLst/>
          </a:prstGeom>
          <a:ln w="0">
            <a:noFill/>
          </a:ln>
        </p:spPr>
      </p:pic>
      <p:sp>
        <p:nvSpPr>
          <p:cNvPr id="1192" name="椭圆形标注 7"/>
          <p:cNvSpPr/>
          <p:nvPr/>
        </p:nvSpPr>
        <p:spPr>
          <a:xfrm>
            <a:off x="928800" y="1500120"/>
            <a:ext cx="1928880" cy="785880"/>
          </a:xfrm>
          <a:prstGeom prst="wedgeEllipseCallout">
            <a:avLst>
              <a:gd name="adj1" fmla="val 79699"/>
              <a:gd name="adj2" fmla="val 101731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买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张票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云形标注 8"/>
          <p:cNvSpPr/>
          <p:nvPr/>
        </p:nvSpPr>
        <p:spPr>
          <a:xfrm>
            <a:off x="6286680" y="1236600"/>
            <a:ext cx="2143080" cy="1500120"/>
          </a:xfrm>
          <a:prstGeom prst="cloudCallout">
            <a:avLst>
              <a:gd name="adj1" fmla="val -127162"/>
              <a:gd name="adj2" fmla="val -3708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每张火车票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215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元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组合 2"/>
          <p:cNvGrpSpPr/>
          <p:nvPr/>
        </p:nvGrpSpPr>
        <p:grpSpPr>
          <a:xfrm>
            <a:off x="0" y="101520"/>
            <a:ext cx="2746440" cy="525600"/>
            <a:chOff x="0" y="101520"/>
            <a:chExt cx="2746440" cy="525600"/>
          </a:xfrm>
        </p:grpSpPr>
        <p:pic>
          <p:nvPicPr>
            <p:cNvPr id="1195" name="圆角矩形 6" descr=""/>
            <p:cNvPicPr/>
            <p:nvPr/>
          </p:nvPicPr>
          <p:blipFill>
            <a:blip r:embed="rId2"/>
            <a:stretch/>
          </p:blipFill>
          <p:spPr>
            <a:xfrm>
              <a:off x="123120" y="101520"/>
              <a:ext cx="2623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6" name="组合 4"/>
            <p:cNvGrpSpPr/>
            <p:nvPr/>
          </p:nvGrpSpPr>
          <p:grpSpPr>
            <a:xfrm>
              <a:off x="0" y="197280"/>
              <a:ext cx="362520" cy="272160"/>
              <a:chOff x="0" y="197280"/>
              <a:chExt cx="362520" cy="272160"/>
            </a:xfrm>
          </p:grpSpPr>
          <p:sp>
            <p:nvSpPr>
              <p:cNvPr id="1197" name="椭圆 2"/>
              <p:cNvSpPr/>
              <p:nvPr/>
            </p:nvSpPr>
            <p:spPr>
              <a:xfrm rot="16200000">
                <a:off x="228960" y="36108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8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62360" y="33948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9" name="椭圆 3"/>
              <p:cNvSpPr/>
              <p:nvPr/>
            </p:nvSpPr>
            <p:spPr>
              <a:xfrm rot="16200000">
                <a:off x="228960" y="24084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0" name="椭圆 4" descr=""/>
              <p:cNvPicPr/>
              <p:nvPr/>
            </p:nvPicPr>
            <p:blipFill>
              <a:blip r:embed="rId4"/>
              <a:stretch/>
            </p:blipFill>
            <p:spPr>
              <a:xfrm>
                <a:off x="162360" y="21348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圆角矩形 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784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圆角矩形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2616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860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728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AutoShape 27"/>
          <p:cNvSpPr/>
          <p:nvPr/>
        </p:nvSpPr>
        <p:spPr>
          <a:xfrm>
            <a:off x="3513240" y="1701720"/>
            <a:ext cx="3668760" cy="555840"/>
          </a:xfrm>
          <a:prstGeom prst="wedgeRoundRectCallout">
            <a:avLst>
              <a:gd name="adj1" fmla="val 56791"/>
              <a:gd name="adj2" fmla="val 417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怎样计算多位数乘一位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27"/>
          <p:cNvSpPr/>
          <p:nvPr/>
        </p:nvSpPr>
        <p:spPr>
          <a:xfrm>
            <a:off x="2362320" y="2460600"/>
            <a:ext cx="3508200" cy="1286280"/>
          </a:xfrm>
          <a:prstGeom prst="wedgeRoundRectCallout">
            <a:avLst>
              <a:gd name="adj1" fmla="val -56689"/>
              <a:gd name="adj2" fmla="val -1049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两个因数的末位要对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从个位起，用一位数依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乘多位数的每一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27"/>
          <p:cNvSpPr/>
          <p:nvPr/>
        </p:nvSpPr>
        <p:spPr>
          <a:xfrm>
            <a:off x="3513240" y="4446720"/>
            <a:ext cx="2736720" cy="1286280"/>
          </a:xfrm>
          <a:prstGeom prst="wedgeRoundRectCallout">
            <a:avLst>
              <a:gd name="adj1" fmla="val 57532"/>
              <a:gd name="adj2" fmla="val 357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哪一位上的数相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满几十，就要向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一位进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图片 45" descr="]@P`{@U$K{A7A$9804YYMFT"/>
          <p:cNvPicPr/>
          <p:nvPr/>
        </p:nvPicPr>
        <p:blipFill>
          <a:blip r:embed="rId8"/>
          <a:stretch/>
        </p:blipFill>
        <p:spPr>
          <a:xfrm>
            <a:off x="441360" y="2155680"/>
            <a:ext cx="1496880" cy="190188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46" descr="6)5][}VZ%@FXJ)FA]TI76$O"/>
          <p:cNvPicPr/>
          <p:nvPr/>
        </p:nvPicPr>
        <p:blipFill>
          <a:blip r:embed="rId9"/>
          <a:stretch/>
        </p:blipFill>
        <p:spPr>
          <a:xfrm flipH="1">
            <a:off x="7480440" y="1325520"/>
            <a:ext cx="1358640" cy="144792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47" descr="AG]4}@PH9UX]GS)L_H5_`K9"/>
          <p:cNvPicPr/>
          <p:nvPr/>
        </p:nvPicPr>
        <p:blipFill>
          <a:blip r:embed="rId10"/>
          <a:stretch/>
        </p:blipFill>
        <p:spPr>
          <a:xfrm flipH="1">
            <a:off x="6635880" y="4446720"/>
            <a:ext cx="76680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6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18" name="椭圆 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6" name="AutoShape 27"/>
          <p:cNvSpPr/>
          <p:nvPr/>
        </p:nvSpPr>
        <p:spPr>
          <a:xfrm>
            <a:off x="1785960" y="1635120"/>
            <a:ext cx="3021120" cy="530280"/>
          </a:xfrm>
          <a:prstGeom prst="wedgeRoundRectCallout">
            <a:avLst>
              <a:gd name="adj1" fmla="val -55939"/>
              <a:gd name="adj2" fmla="val 4429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谁能准确计算这道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1"/>
          <p:cNvSpPr/>
          <p:nvPr/>
        </p:nvSpPr>
        <p:spPr>
          <a:xfrm>
            <a:off x="1441440" y="4775040"/>
            <a:ext cx="1965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8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组合 6"/>
          <p:cNvGrpSpPr/>
          <p:nvPr/>
        </p:nvGrpSpPr>
        <p:grpSpPr>
          <a:xfrm>
            <a:off x="4024440" y="3173400"/>
            <a:ext cx="2717640" cy="2244600"/>
            <a:chOff x="4024440" y="3173400"/>
            <a:chExt cx="2717640" cy="2244600"/>
          </a:xfrm>
        </p:grpSpPr>
        <p:grpSp>
          <p:nvGrpSpPr>
            <p:cNvPr id="1029" name="Group 54"/>
            <p:cNvGrpSpPr/>
            <p:nvPr/>
          </p:nvGrpSpPr>
          <p:grpSpPr>
            <a:xfrm>
              <a:off x="4024440" y="3173400"/>
              <a:ext cx="2717640" cy="2244600"/>
              <a:chOff x="4024440" y="3173400"/>
              <a:chExt cx="2717640" cy="2244600"/>
            </a:xfrm>
          </p:grpSpPr>
          <p:sp>
            <p:nvSpPr>
              <p:cNvPr id="1030" name="AutoShape 27"/>
              <p:cNvSpPr/>
              <p:nvPr/>
            </p:nvSpPr>
            <p:spPr>
              <a:xfrm>
                <a:off x="4024440" y="3176640"/>
                <a:ext cx="2717640" cy="2241360"/>
              </a:xfrm>
              <a:prstGeom prst="wedgeRoundRectCallout">
                <a:avLst>
                  <a:gd name="adj1" fmla="val 58870"/>
                  <a:gd name="adj2" fmla="val -1101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c1c1c"/>
                    </a:solidFill>
                    <a:latin typeface="楷体_GB2312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c1c1c"/>
                    </a:solidFill>
                    <a:latin typeface="楷体_GB2312"/>
                  </a:rPr>
                  <a:t>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Box 11"/>
              <p:cNvSpPr/>
              <p:nvPr/>
            </p:nvSpPr>
            <p:spPr>
              <a:xfrm>
                <a:off x="4958280" y="3173400"/>
                <a:ext cx="14472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   2   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TextBox 12"/>
              <p:cNvSpPr/>
              <p:nvPr/>
            </p:nvSpPr>
            <p:spPr>
              <a:xfrm>
                <a:off x="4132080" y="3721320"/>
                <a:ext cx="2376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×              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直接连接符 47"/>
              <p:cNvSpPr/>
              <p:nvPr/>
            </p:nvSpPr>
            <p:spPr>
              <a:xfrm flipV="1">
                <a:off x="4246560" y="4376880"/>
                <a:ext cx="2272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TextBox 23"/>
            <p:cNvSpPr/>
            <p:nvPr/>
          </p:nvSpPr>
          <p:spPr>
            <a:xfrm>
              <a:off x="6005520" y="4348440"/>
              <a:ext cx="5428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26"/>
            <p:cNvSpPr/>
            <p:nvPr/>
          </p:nvSpPr>
          <p:spPr>
            <a:xfrm>
              <a:off x="5648760" y="3997800"/>
              <a:ext cx="34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23"/>
            <p:cNvSpPr/>
            <p:nvPr/>
          </p:nvSpPr>
          <p:spPr>
            <a:xfrm>
              <a:off x="5481720" y="4348440"/>
              <a:ext cx="5428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Box 26"/>
            <p:cNvSpPr/>
            <p:nvPr/>
          </p:nvSpPr>
          <p:spPr>
            <a:xfrm>
              <a:off x="5153400" y="3997800"/>
              <a:ext cx="34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Box 23"/>
            <p:cNvSpPr/>
            <p:nvPr/>
          </p:nvSpPr>
          <p:spPr>
            <a:xfrm>
              <a:off x="4967280" y="4348440"/>
              <a:ext cx="5428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Box 23"/>
            <p:cNvSpPr/>
            <p:nvPr/>
          </p:nvSpPr>
          <p:spPr>
            <a:xfrm>
              <a:off x="4443480" y="4348440"/>
              <a:ext cx="5428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0" name="图片 45" descr="]@P`{@U$K{A7A$9804YYMFT"/>
          <p:cNvPicPr/>
          <p:nvPr/>
        </p:nvPicPr>
        <p:blipFill>
          <a:blip r:embed="rId8"/>
          <a:stretch/>
        </p:blipFill>
        <p:spPr>
          <a:xfrm>
            <a:off x="289080" y="2290680"/>
            <a:ext cx="1496880" cy="190188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46" descr="6)5][}VZ%@FXJ)FA]TI76$O"/>
          <p:cNvPicPr/>
          <p:nvPr/>
        </p:nvPicPr>
        <p:blipFill>
          <a:blip r:embed="rId9"/>
          <a:stretch/>
        </p:blipFill>
        <p:spPr>
          <a:xfrm flipH="1">
            <a:off x="7106760" y="3178080"/>
            <a:ext cx="1357560" cy="14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3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45" name="椭圆 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6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3" name="AutoShape 27"/>
          <p:cNvSpPr/>
          <p:nvPr/>
        </p:nvSpPr>
        <p:spPr>
          <a:xfrm>
            <a:off x="4417920" y="865080"/>
            <a:ext cx="2841840" cy="555840"/>
          </a:xfrm>
          <a:prstGeom prst="wedgeRoundRectCallout">
            <a:avLst>
              <a:gd name="adj1" fmla="val 58773"/>
              <a:gd name="adj2" fmla="val 417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先估算一下再连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22" descr="113"/>
          <p:cNvPicPr/>
          <p:nvPr/>
        </p:nvPicPr>
        <p:blipFill>
          <a:blip r:embed="rId8"/>
          <a:stretch/>
        </p:blipFill>
        <p:spPr>
          <a:xfrm>
            <a:off x="846000" y="1955880"/>
            <a:ext cx="7453440" cy="1439640"/>
          </a:xfrm>
          <a:prstGeom prst="rect">
            <a:avLst/>
          </a:prstGeom>
          <a:ln w="0">
            <a:noFill/>
          </a:ln>
        </p:spPr>
      </p:pic>
      <p:sp>
        <p:nvSpPr>
          <p:cNvPr id="1055" name="AutoShape 27"/>
          <p:cNvSpPr/>
          <p:nvPr/>
        </p:nvSpPr>
        <p:spPr>
          <a:xfrm>
            <a:off x="2475000" y="4840200"/>
            <a:ext cx="4599000" cy="891000"/>
          </a:xfrm>
          <a:prstGeom prst="wedgeRoundRectCallout">
            <a:avLst>
              <a:gd name="adj1" fmla="val -55101"/>
              <a:gd name="adj2" fmla="val 2414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可以看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00×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所以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连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图片 45" descr="]@P`{@U$K{A7A$9804YYMFT"/>
          <p:cNvPicPr/>
          <p:nvPr/>
        </p:nvPicPr>
        <p:blipFill>
          <a:blip r:embed="rId9"/>
          <a:stretch/>
        </p:blipFill>
        <p:spPr>
          <a:xfrm>
            <a:off x="538200" y="4145040"/>
            <a:ext cx="1496880" cy="190188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46" descr="6)5][}VZ%@FXJ)FA]TI76$O"/>
          <p:cNvPicPr/>
          <p:nvPr/>
        </p:nvPicPr>
        <p:blipFill>
          <a:blip r:embed="rId10"/>
          <a:stretch/>
        </p:blipFill>
        <p:spPr>
          <a:xfrm flipH="1">
            <a:off x="7489440" y="434880"/>
            <a:ext cx="13590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9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61" name="椭圆 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2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9" name="AutoShape 27"/>
          <p:cNvSpPr/>
          <p:nvPr/>
        </p:nvSpPr>
        <p:spPr>
          <a:xfrm>
            <a:off x="3840120" y="1062000"/>
            <a:ext cx="3281400" cy="969840"/>
          </a:xfrm>
          <a:prstGeom prst="wedgeRoundRectCallout">
            <a:avLst>
              <a:gd name="adj1" fmla="val 57013"/>
              <a:gd name="adj2" fmla="val 3297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你能提出什么数学问题？你会解答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7"/>
          <p:cNvSpPr/>
          <p:nvPr/>
        </p:nvSpPr>
        <p:spPr>
          <a:xfrm>
            <a:off x="2048040" y="5237280"/>
            <a:ext cx="3670200" cy="891000"/>
          </a:xfrm>
          <a:prstGeom prst="wedgeRoundRectCallout">
            <a:avLst>
              <a:gd name="adj1" fmla="val -56393"/>
              <a:gd name="adj2" fmla="val 169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这场的票房收入是多少元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图片 45" descr="]@P`{@U$K{A7A$9804YYMFT"/>
          <p:cNvPicPr/>
          <p:nvPr/>
        </p:nvPicPr>
        <p:blipFill>
          <a:blip r:embed="rId8"/>
          <a:stretch/>
        </p:blipFill>
        <p:spPr>
          <a:xfrm>
            <a:off x="179280" y="4233960"/>
            <a:ext cx="1497240" cy="190188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46" descr="6)5][}VZ%@FXJ)FA]TI76$O"/>
          <p:cNvPicPr/>
          <p:nvPr/>
        </p:nvPicPr>
        <p:blipFill>
          <a:blip r:embed="rId9"/>
          <a:stretch/>
        </p:blipFill>
        <p:spPr>
          <a:xfrm flipH="1">
            <a:off x="7532640" y="984240"/>
            <a:ext cx="1357200" cy="144792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3" descr="XG[_E~B{_BUH7Q0}JI3C)JV"/>
          <p:cNvPicPr/>
          <p:nvPr/>
        </p:nvPicPr>
        <p:blipFill>
          <a:blip r:embed="rId10"/>
          <a:stretch/>
        </p:blipFill>
        <p:spPr>
          <a:xfrm>
            <a:off x="3763800" y="3005280"/>
            <a:ext cx="1860840" cy="153828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4" descr="MC66Q[{Y45LR((`J]5HOAOB"/>
          <p:cNvPicPr/>
          <p:nvPr/>
        </p:nvPicPr>
        <p:blipFill>
          <a:blip r:embed="rId11"/>
          <a:stretch/>
        </p:blipFill>
        <p:spPr>
          <a:xfrm>
            <a:off x="1676520" y="3005280"/>
            <a:ext cx="2087280" cy="1914480"/>
          </a:xfrm>
          <a:prstGeom prst="rect">
            <a:avLst/>
          </a:prstGeom>
          <a:ln w="0">
            <a:noFill/>
          </a:ln>
        </p:spPr>
      </p:pic>
      <p:sp>
        <p:nvSpPr>
          <p:cNvPr id="1075" name="文本框 5"/>
          <p:cNvSpPr/>
          <p:nvPr/>
        </p:nvSpPr>
        <p:spPr>
          <a:xfrm>
            <a:off x="2259000" y="3301920"/>
            <a:ext cx="14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票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20"/>
          <p:cNvSpPr/>
          <p:nvPr/>
        </p:nvSpPr>
        <p:spPr>
          <a:xfrm>
            <a:off x="1822320" y="26035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剧场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7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座位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8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80" name="椭圆 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8" name="AutoShape 27"/>
          <p:cNvSpPr/>
          <p:nvPr/>
        </p:nvSpPr>
        <p:spPr>
          <a:xfrm>
            <a:off x="1795320" y="4280040"/>
            <a:ext cx="2435400" cy="1286280"/>
          </a:xfrm>
          <a:prstGeom prst="wedgeRoundRectCallout">
            <a:avLst>
              <a:gd name="adj1" fmla="val -59250"/>
              <a:gd name="adj2" fmla="val -962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回来还乘同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票价的火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什么意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AutoShape 27"/>
          <p:cNvSpPr/>
          <p:nvPr/>
        </p:nvSpPr>
        <p:spPr>
          <a:xfrm>
            <a:off x="4560840" y="4910040"/>
            <a:ext cx="2516400" cy="1286280"/>
          </a:xfrm>
          <a:prstGeom prst="wedgeRoundRectCallout">
            <a:avLst>
              <a:gd name="adj1" fmla="val 58893"/>
              <a:gd name="adj2" fmla="val 579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句话的意思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回来还要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元的火车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AutoShape 27"/>
          <p:cNvSpPr/>
          <p:nvPr/>
        </p:nvSpPr>
        <p:spPr>
          <a:xfrm>
            <a:off x="4489560" y="3639960"/>
            <a:ext cx="3314520" cy="496440"/>
          </a:xfrm>
          <a:prstGeom prst="wedgeRoundRectCallout">
            <a:avLst>
              <a:gd name="adj1" fmla="val 54013"/>
              <a:gd name="adj2" fmla="val -468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5×3×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图片 3" descr="XG[_E~B{_BUH7Q0}JI3C)JV"/>
          <p:cNvPicPr/>
          <p:nvPr/>
        </p:nvPicPr>
        <p:blipFill>
          <a:blip r:embed="rId8"/>
          <a:stretch/>
        </p:blipFill>
        <p:spPr>
          <a:xfrm>
            <a:off x="3017880" y="868320"/>
            <a:ext cx="1861920" cy="154008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46" descr="6)5][}VZ%@FXJ)FA]TI76$O"/>
          <p:cNvPicPr/>
          <p:nvPr/>
        </p:nvPicPr>
        <p:blipFill>
          <a:blip r:embed="rId9"/>
          <a:stretch/>
        </p:blipFill>
        <p:spPr>
          <a:xfrm flipH="1">
            <a:off x="8112240" y="3511440"/>
            <a:ext cx="915840" cy="974880"/>
          </a:xfrm>
          <a:prstGeom prst="rect">
            <a:avLst/>
          </a:prstGeom>
          <a:ln w="0">
            <a:noFill/>
          </a:ln>
        </p:spPr>
      </p:pic>
      <p:pic>
        <p:nvPicPr>
          <p:cNvPr id="1093" name="图片 2" descr="6)5][}VZ%@FXJ)FA]TI76$O"/>
          <p:cNvPicPr/>
          <p:nvPr/>
        </p:nvPicPr>
        <p:blipFill>
          <a:blip r:embed="rId10"/>
          <a:stretch/>
        </p:blipFill>
        <p:spPr>
          <a:xfrm flipH="1">
            <a:off x="7400880" y="4686480"/>
            <a:ext cx="1357200" cy="1447560"/>
          </a:xfrm>
          <a:prstGeom prst="rect">
            <a:avLst/>
          </a:prstGeom>
          <a:ln w="0">
            <a:noFill/>
          </a:ln>
        </p:spPr>
      </p:pic>
      <p:pic>
        <p:nvPicPr>
          <p:cNvPr id="1094" name="图片 45" descr="]@P`{@U$K{A7A$9804YYMFT"/>
          <p:cNvPicPr/>
          <p:nvPr/>
        </p:nvPicPr>
        <p:blipFill>
          <a:blip r:embed="rId11"/>
          <a:stretch/>
        </p:blipFill>
        <p:spPr>
          <a:xfrm>
            <a:off x="0" y="4152960"/>
            <a:ext cx="1496880" cy="1901880"/>
          </a:xfrm>
          <a:prstGeom prst="rect">
            <a:avLst/>
          </a:prstGeom>
          <a:ln w="0">
            <a:noFill/>
          </a:ln>
        </p:spPr>
      </p:pic>
      <p:sp>
        <p:nvSpPr>
          <p:cNvPr id="1095" name="文本框 4"/>
          <p:cNvSpPr/>
          <p:nvPr/>
        </p:nvSpPr>
        <p:spPr>
          <a:xfrm>
            <a:off x="46080" y="2503440"/>
            <a:ext cx="9051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回来还乘同样票价的火车，这次旅游买火车票一共花了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图片 5" descr="MC66Q[{Y45LR((`J]5HOAOB"/>
          <p:cNvPicPr/>
          <p:nvPr/>
        </p:nvPicPr>
        <p:blipFill>
          <a:blip r:embed="rId12"/>
          <a:stretch/>
        </p:blipFill>
        <p:spPr>
          <a:xfrm>
            <a:off x="46080" y="766800"/>
            <a:ext cx="2889360" cy="1782720"/>
          </a:xfrm>
          <a:prstGeom prst="rect">
            <a:avLst/>
          </a:prstGeom>
          <a:ln w="0">
            <a:noFill/>
          </a:ln>
        </p:spPr>
      </p:pic>
      <p:sp>
        <p:nvSpPr>
          <p:cNvPr id="1097" name="文本框 6"/>
          <p:cNvSpPr/>
          <p:nvPr/>
        </p:nvSpPr>
        <p:spPr>
          <a:xfrm>
            <a:off x="836640" y="1100160"/>
            <a:ext cx="17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张火车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组合 2"/>
          <p:cNvGrpSpPr/>
          <p:nvPr/>
        </p:nvGrpSpPr>
        <p:grpSpPr>
          <a:xfrm>
            <a:off x="0" y="163440"/>
            <a:ext cx="2906640" cy="525600"/>
            <a:chOff x="0" y="163440"/>
            <a:chExt cx="2906640" cy="525600"/>
          </a:xfrm>
        </p:grpSpPr>
        <p:pic>
          <p:nvPicPr>
            <p:cNvPr id="10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48680" y="163440"/>
              <a:ext cx="27579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0" name="组合 4"/>
            <p:cNvGrpSpPr/>
            <p:nvPr/>
          </p:nvGrpSpPr>
          <p:grpSpPr>
            <a:xfrm>
              <a:off x="0" y="207720"/>
              <a:ext cx="381600" cy="271800"/>
              <a:chOff x="0" y="207720"/>
              <a:chExt cx="381600" cy="271800"/>
            </a:xfrm>
          </p:grpSpPr>
          <p:sp>
            <p:nvSpPr>
              <p:cNvPr id="1101" name="椭圆 1"/>
              <p:cNvSpPr/>
              <p:nvPr/>
            </p:nvSpPr>
            <p:spPr>
              <a:xfrm rot="16200000">
                <a:off x="232560" y="373680"/>
                <a:ext cx="9612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77840" y="346680"/>
                <a:ext cx="203760" cy="12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3" name="椭圆 29"/>
              <p:cNvSpPr/>
              <p:nvPr/>
            </p:nvSpPr>
            <p:spPr>
              <a:xfrm rot="16200000">
                <a:off x="232560" y="250200"/>
                <a:ext cx="9612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7840" y="223560"/>
                <a:ext cx="203760" cy="12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64320"/>
                <a:ext cx="309960" cy="1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3720"/>
                <a:ext cx="309960" cy="1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38320"/>
                <a:ext cx="309960" cy="1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07720"/>
                <a:ext cx="309960" cy="10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09" name="Picture 2" descr="D:\我的文档-桌面-收藏夹\桌面\QQ截图20150211145618.png"/>
          <p:cNvPicPr/>
          <p:nvPr/>
        </p:nvPicPr>
        <p:blipFill>
          <a:blip r:embed="rId8"/>
          <a:stretch/>
        </p:blipFill>
        <p:spPr>
          <a:xfrm>
            <a:off x="1460520" y="1214280"/>
            <a:ext cx="525456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矩形 2"/>
          <p:cNvSpPr/>
          <p:nvPr/>
        </p:nvSpPr>
        <p:spPr>
          <a:xfrm>
            <a:off x="357120" y="1076400"/>
            <a:ext cx="83581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2×3=      15×6=        204×7=       913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4"/>
          <p:cNvSpPr/>
          <p:nvPr/>
        </p:nvSpPr>
        <p:spPr>
          <a:xfrm>
            <a:off x="1357200" y="180324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5"/>
          <p:cNvSpPr/>
          <p:nvPr/>
        </p:nvSpPr>
        <p:spPr>
          <a:xfrm>
            <a:off x="3214800" y="177804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6"/>
          <p:cNvSpPr/>
          <p:nvPr/>
        </p:nvSpPr>
        <p:spPr>
          <a:xfrm>
            <a:off x="5643720" y="175428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2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7"/>
          <p:cNvSpPr/>
          <p:nvPr/>
        </p:nvSpPr>
        <p:spPr>
          <a:xfrm>
            <a:off x="357120" y="3013200"/>
            <a:ext cx="80726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1×2=      156×9=       2600×4=       190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8"/>
          <p:cNvSpPr/>
          <p:nvPr/>
        </p:nvSpPr>
        <p:spPr>
          <a:xfrm>
            <a:off x="1425600" y="37069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9"/>
          <p:cNvSpPr/>
          <p:nvPr/>
        </p:nvSpPr>
        <p:spPr>
          <a:xfrm>
            <a:off x="3471840" y="370692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10"/>
          <p:cNvSpPr/>
          <p:nvPr/>
        </p:nvSpPr>
        <p:spPr>
          <a:xfrm>
            <a:off x="5907240" y="368460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4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11"/>
          <p:cNvSpPr/>
          <p:nvPr/>
        </p:nvSpPr>
        <p:spPr>
          <a:xfrm>
            <a:off x="0" y="874800"/>
            <a:ext cx="7358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计算，能口算的就口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组合 18"/>
          <p:cNvGrpSpPr/>
          <p:nvPr/>
        </p:nvGrpSpPr>
        <p:grpSpPr>
          <a:xfrm>
            <a:off x="4500720" y="2160720"/>
            <a:ext cx="1571400" cy="1071360"/>
            <a:chOff x="4500720" y="2160720"/>
            <a:chExt cx="1571400" cy="1071360"/>
          </a:xfrm>
        </p:grpSpPr>
        <p:sp>
          <p:nvSpPr>
            <p:cNvPr id="1120" name="TextBox 19"/>
            <p:cNvSpPr/>
            <p:nvPr/>
          </p:nvSpPr>
          <p:spPr>
            <a:xfrm>
              <a:off x="4500720" y="2160720"/>
              <a:ext cx="15714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0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7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4 2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4571640" y="3017520"/>
              <a:ext cx="1214640" cy="360"/>
              <a:chOff x="4571640" y="3017520"/>
              <a:chExt cx="1214640" cy="360"/>
            </a:xfrm>
          </p:grpSpPr>
          <p:sp>
            <p:nvSpPr>
              <p:cNvPr id="1122" name="直接连接符 20"/>
              <p:cNvSpPr/>
              <p:nvPr/>
            </p:nvSpPr>
            <p:spPr>
              <a:xfrm>
                <a:off x="4572000" y="3017880"/>
                <a:ext cx="1214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 txBox="1"/>
              <p:nvPr/>
            </p:nvSpPr>
            <p:spPr>
              <a:xfrm rot="10800000">
                <a:off x="4571640" y="3017520"/>
                <a:ext cx="1214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4" name="组合 24"/>
          <p:cNvGrpSpPr/>
          <p:nvPr/>
        </p:nvGrpSpPr>
        <p:grpSpPr>
          <a:xfrm>
            <a:off x="2286000" y="4160880"/>
            <a:ext cx="1571760" cy="1071360"/>
            <a:chOff x="2286000" y="4160880"/>
            <a:chExt cx="1571760" cy="1071360"/>
          </a:xfrm>
        </p:grpSpPr>
        <p:sp>
          <p:nvSpPr>
            <p:cNvPr id="1125" name="TextBox 25"/>
            <p:cNvSpPr/>
            <p:nvPr/>
          </p:nvSpPr>
          <p:spPr>
            <a:xfrm>
              <a:off x="2286000" y="4160880"/>
              <a:ext cx="15717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9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4 0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2478600" y="5018040"/>
              <a:ext cx="1236240" cy="360"/>
              <a:chOff x="2478600" y="5018040"/>
              <a:chExt cx="1236240" cy="360"/>
            </a:xfrm>
          </p:grpSpPr>
          <p:sp>
            <p:nvSpPr>
              <p:cNvPr id="1127" name="直接连接符 26"/>
              <p:cNvSpPr/>
              <p:nvPr/>
            </p:nvSpPr>
            <p:spPr>
              <a:xfrm>
                <a:off x="2478600" y="5018040"/>
                <a:ext cx="1236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 txBox="1"/>
              <p:nvPr/>
            </p:nvSpPr>
            <p:spPr>
              <a:xfrm>
                <a:off x="2478600" y="5018040"/>
                <a:ext cx="1236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9" name="组合 27"/>
          <p:cNvGrpSpPr/>
          <p:nvPr/>
        </p:nvGrpSpPr>
        <p:grpSpPr>
          <a:xfrm>
            <a:off x="4572000" y="4160880"/>
            <a:ext cx="1857240" cy="1071360"/>
            <a:chOff x="4572000" y="4160880"/>
            <a:chExt cx="1857240" cy="1071360"/>
          </a:xfrm>
        </p:grpSpPr>
        <p:sp>
          <p:nvSpPr>
            <p:cNvPr id="1130" name="TextBox 28"/>
            <p:cNvSpPr/>
            <p:nvPr/>
          </p:nvSpPr>
          <p:spPr>
            <a:xfrm>
              <a:off x="4572000" y="4160880"/>
              <a:ext cx="18572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6 0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0 4 0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4714560" y="5018040"/>
              <a:ext cx="1428840" cy="360"/>
              <a:chOff x="4714560" y="5018040"/>
              <a:chExt cx="1428840" cy="360"/>
            </a:xfrm>
          </p:grpSpPr>
          <p:sp>
            <p:nvSpPr>
              <p:cNvPr id="1132" name="直接连接符 29"/>
              <p:cNvSpPr/>
              <p:nvPr/>
            </p:nvSpPr>
            <p:spPr>
              <a:xfrm>
                <a:off x="4714560" y="5018040"/>
                <a:ext cx="1428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 txBox="1"/>
              <p:nvPr/>
            </p:nvSpPr>
            <p:spPr>
              <a:xfrm>
                <a:off x="4714560" y="5018040"/>
                <a:ext cx="142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4" name="TextBox 30"/>
          <p:cNvSpPr/>
          <p:nvPr/>
        </p:nvSpPr>
        <p:spPr>
          <a:xfrm>
            <a:off x="7929720" y="175428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3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组合 31"/>
          <p:cNvGrpSpPr/>
          <p:nvPr/>
        </p:nvGrpSpPr>
        <p:grpSpPr>
          <a:xfrm>
            <a:off x="6786720" y="2160720"/>
            <a:ext cx="1571400" cy="1071360"/>
            <a:chOff x="6786720" y="2160720"/>
            <a:chExt cx="1571400" cy="1071360"/>
          </a:xfrm>
        </p:grpSpPr>
        <p:sp>
          <p:nvSpPr>
            <p:cNvPr id="1136" name="TextBox 32"/>
            <p:cNvSpPr/>
            <p:nvPr/>
          </p:nvSpPr>
          <p:spPr>
            <a:xfrm>
              <a:off x="6786720" y="2160720"/>
              <a:ext cx="15714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 8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7 3 0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6929280" y="3017880"/>
              <a:ext cx="1285920" cy="360"/>
              <a:chOff x="6929280" y="3017880"/>
              <a:chExt cx="1285920" cy="360"/>
            </a:xfrm>
          </p:grpSpPr>
          <p:sp>
            <p:nvSpPr>
              <p:cNvPr id="1138" name="直接连接符 33"/>
              <p:cNvSpPr/>
              <p:nvPr/>
            </p:nvSpPr>
            <p:spPr>
              <a:xfrm>
                <a:off x="6929280" y="3017880"/>
                <a:ext cx="1285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 txBox="1"/>
              <p:nvPr/>
            </p:nvSpPr>
            <p:spPr>
              <a:xfrm>
                <a:off x="6929280" y="3017880"/>
                <a:ext cx="1285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0" name="组合 34"/>
          <p:cNvGrpSpPr/>
          <p:nvPr/>
        </p:nvGrpSpPr>
        <p:grpSpPr>
          <a:xfrm>
            <a:off x="6858000" y="4089240"/>
            <a:ext cx="1571760" cy="1071720"/>
            <a:chOff x="6858000" y="4089240"/>
            <a:chExt cx="1571760" cy="1071720"/>
          </a:xfrm>
        </p:grpSpPr>
        <p:sp>
          <p:nvSpPr>
            <p:cNvPr id="1141" name="TextBox 35"/>
            <p:cNvSpPr/>
            <p:nvPr/>
          </p:nvSpPr>
          <p:spPr>
            <a:xfrm>
              <a:off x="6858000" y="4089240"/>
              <a:ext cx="157176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5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 5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7050600" y="4946760"/>
              <a:ext cx="1236240" cy="360"/>
              <a:chOff x="7050600" y="4946760"/>
              <a:chExt cx="1236240" cy="360"/>
            </a:xfrm>
          </p:grpSpPr>
          <p:sp>
            <p:nvSpPr>
              <p:cNvPr id="1143" name="直接连接符 36"/>
              <p:cNvSpPr/>
              <p:nvPr/>
            </p:nvSpPr>
            <p:spPr>
              <a:xfrm>
                <a:off x="7050600" y="4946760"/>
                <a:ext cx="1236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 txBox="1"/>
              <p:nvPr/>
            </p:nvSpPr>
            <p:spPr>
              <a:xfrm>
                <a:off x="7050600" y="4946760"/>
                <a:ext cx="1236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5" name="TextBox 37"/>
          <p:cNvSpPr/>
          <p:nvPr/>
        </p:nvSpPr>
        <p:spPr>
          <a:xfrm>
            <a:off x="8104320" y="370692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组合 2"/>
          <p:cNvGrpSpPr/>
          <p:nvPr/>
        </p:nvGrpSpPr>
        <p:grpSpPr>
          <a:xfrm>
            <a:off x="0" y="101520"/>
            <a:ext cx="2746440" cy="525600"/>
            <a:chOff x="0" y="101520"/>
            <a:chExt cx="2746440" cy="525600"/>
          </a:xfrm>
        </p:grpSpPr>
        <p:pic>
          <p:nvPicPr>
            <p:cNvPr id="1147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23120" y="101520"/>
              <a:ext cx="2623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8" name="组合 4"/>
            <p:cNvGrpSpPr/>
            <p:nvPr/>
          </p:nvGrpSpPr>
          <p:grpSpPr>
            <a:xfrm>
              <a:off x="0" y="197280"/>
              <a:ext cx="362520" cy="272160"/>
              <a:chOff x="0" y="197280"/>
              <a:chExt cx="362520" cy="272160"/>
            </a:xfrm>
          </p:grpSpPr>
          <p:sp>
            <p:nvSpPr>
              <p:cNvPr id="1149" name="椭圆 7"/>
              <p:cNvSpPr/>
              <p:nvPr/>
            </p:nvSpPr>
            <p:spPr>
              <a:xfrm rot="16200000">
                <a:off x="228960" y="36108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0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360" y="33948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1" name="椭圆 29"/>
              <p:cNvSpPr/>
              <p:nvPr/>
            </p:nvSpPr>
            <p:spPr>
              <a:xfrm rot="16200000">
                <a:off x="228960" y="24084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2360" y="21348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784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Box 3"/>
          <p:cNvSpPr/>
          <p:nvPr/>
        </p:nvSpPr>
        <p:spPr>
          <a:xfrm>
            <a:off x="279360" y="738360"/>
            <a:ext cx="5578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估算一下，连一连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4"/>
          <p:cNvSpPr/>
          <p:nvPr/>
        </p:nvSpPr>
        <p:spPr>
          <a:xfrm>
            <a:off x="642960" y="1857240"/>
            <a:ext cx="164304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1700×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5"/>
          <p:cNvSpPr/>
          <p:nvPr/>
        </p:nvSpPr>
        <p:spPr>
          <a:xfrm>
            <a:off x="2714760" y="1857240"/>
            <a:ext cx="164304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192×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"/>
          <p:cNvSpPr/>
          <p:nvPr/>
        </p:nvSpPr>
        <p:spPr>
          <a:xfrm>
            <a:off x="4857840" y="1857240"/>
            <a:ext cx="164304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302×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7"/>
          <p:cNvSpPr/>
          <p:nvPr/>
        </p:nvSpPr>
        <p:spPr>
          <a:xfrm>
            <a:off x="7000920" y="1857240"/>
            <a:ext cx="164304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42×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8"/>
          <p:cNvSpPr/>
          <p:nvPr/>
        </p:nvSpPr>
        <p:spPr>
          <a:xfrm>
            <a:off x="785880" y="3643200"/>
            <a:ext cx="107136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25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9"/>
          <p:cNvSpPr/>
          <p:nvPr/>
        </p:nvSpPr>
        <p:spPr>
          <a:xfrm>
            <a:off x="2928960" y="3643200"/>
            <a:ext cx="107172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57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10"/>
          <p:cNvSpPr/>
          <p:nvPr/>
        </p:nvSpPr>
        <p:spPr>
          <a:xfrm>
            <a:off x="5072040" y="3643200"/>
            <a:ext cx="121464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51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11"/>
          <p:cNvSpPr/>
          <p:nvPr/>
        </p:nvSpPr>
        <p:spPr>
          <a:xfrm>
            <a:off x="7358040" y="3571920"/>
            <a:ext cx="121464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24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428840" y="2643120"/>
            <a:ext cx="4214880" cy="928800"/>
            <a:chOff x="1428840" y="2643120"/>
            <a:chExt cx="4214880" cy="928800"/>
          </a:xfrm>
        </p:grpSpPr>
        <p:sp>
          <p:nvSpPr>
            <p:cNvPr id="1167" name="直接连接符 13"/>
            <p:cNvSpPr/>
            <p:nvPr/>
          </p:nvSpPr>
          <p:spPr>
            <a:xfrm>
              <a:off x="1428840" y="2643120"/>
              <a:ext cx="4214880" cy="928800"/>
            </a:xfrm>
            <a:prstGeom prst="line">
              <a:avLst/>
            </a:prstGeom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1428840" y="2643120"/>
              <a:ext cx="4214880" cy="9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3428280" y="2642760"/>
            <a:ext cx="143640" cy="857520"/>
            <a:chOff x="3428280" y="2642760"/>
            <a:chExt cx="143640" cy="857520"/>
          </a:xfrm>
        </p:grpSpPr>
        <p:sp>
          <p:nvSpPr>
            <p:cNvPr id="1170" name="直接连接符 16"/>
            <p:cNvSpPr/>
            <p:nvPr/>
          </p:nvSpPr>
          <p:spPr>
            <a:xfrm>
              <a:off x="3428280" y="2643120"/>
              <a:ext cx="142920" cy="857160"/>
            </a:xfrm>
            <a:prstGeom prst="line">
              <a:avLst/>
            </a:prstGeom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 rot="16200000">
              <a:off x="3071880" y="2999880"/>
              <a:ext cx="8571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643720" y="2643120"/>
            <a:ext cx="2286000" cy="857160"/>
            <a:chOff x="5643720" y="2643120"/>
            <a:chExt cx="2286000" cy="857160"/>
          </a:xfrm>
        </p:grpSpPr>
        <p:sp>
          <p:nvSpPr>
            <p:cNvPr id="1173" name="直接连接符 18"/>
            <p:cNvSpPr/>
            <p:nvPr/>
          </p:nvSpPr>
          <p:spPr>
            <a:xfrm>
              <a:off x="5643720" y="2643120"/>
              <a:ext cx="2286000" cy="857160"/>
            </a:xfrm>
            <a:prstGeom prst="line">
              <a:avLst/>
            </a:prstGeom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 txBox="1"/>
            <p:nvPr/>
          </p:nvSpPr>
          <p:spPr>
            <a:xfrm>
              <a:off x="5643720" y="2643120"/>
              <a:ext cx="2286000" cy="8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1285920" y="2643120"/>
            <a:ext cx="6500880" cy="928800"/>
            <a:chOff x="1285920" y="2643120"/>
            <a:chExt cx="6500880" cy="928800"/>
          </a:xfrm>
        </p:grpSpPr>
        <p:sp>
          <p:nvSpPr>
            <p:cNvPr id="1176" name="直接连接符 20"/>
            <p:cNvSpPr/>
            <p:nvPr/>
          </p:nvSpPr>
          <p:spPr>
            <a:xfrm flipH="1">
              <a:off x="1285920" y="2643120"/>
              <a:ext cx="6500880" cy="928800"/>
            </a:xfrm>
            <a:prstGeom prst="line">
              <a:avLst/>
            </a:prstGeom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1285920" y="2643120"/>
              <a:ext cx="6500880" cy="9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组合 2"/>
          <p:cNvGrpSpPr/>
          <p:nvPr/>
        </p:nvGrpSpPr>
        <p:grpSpPr>
          <a:xfrm>
            <a:off x="0" y="101520"/>
            <a:ext cx="2746440" cy="525600"/>
            <a:chOff x="0" y="101520"/>
            <a:chExt cx="2746440" cy="525600"/>
          </a:xfrm>
        </p:grpSpPr>
        <p:pic>
          <p:nvPicPr>
            <p:cNvPr id="1179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23120" y="101520"/>
              <a:ext cx="2623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0" name="组合 4"/>
            <p:cNvGrpSpPr/>
            <p:nvPr/>
          </p:nvGrpSpPr>
          <p:grpSpPr>
            <a:xfrm>
              <a:off x="0" y="197280"/>
              <a:ext cx="362520" cy="272160"/>
              <a:chOff x="0" y="197280"/>
              <a:chExt cx="362520" cy="272160"/>
            </a:xfrm>
          </p:grpSpPr>
          <p:sp>
            <p:nvSpPr>
              <p:cNvPr id="1181" name="椭圆 2"/>
              <p:cNvSpPr/>
              <p:nvPr/>
            </p:nvSpPr>
            <p:spPr>
              <a:xfrm rot="16200000">
                <a:off x="228960" y="36108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2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360" y="33948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3" name="椭圆 3"/>
              <p:cNvSpPr/>
              <p:nvPr/>
            </p:nvSpPr>
            <p:spPr>
              <a:xfrm rot="16200000">
                <a:off x="228960" y="24084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4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62360" y="21348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784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7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03:17:17Z</dcterms:created>
  <dc:creator/>
  <dc:description/>
  <dc:language>en-US</dc:language>
  <cp:lastModifiedBy>万润仪器贸易公司</cp:lastModifiedBy>
  <dcterms:modified xsi:type="dcterms:W3CDTF">2020-08-21T01:50:45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